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D45-D2D3-4A82-B1AA-A97C8A54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874-7DAC-4EFC-86F9-72CFE019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FFC-F20D-4C44-B017-1B9D4C57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198-BB9D-49EC-8F5D-5225B6BD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98C1-EE51-471C-86DB-55F9C460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0827-0A81-419F-B4CB-F41A14A6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C44E-0F80-453B-B863-91C22E56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B543-48FF-4840-9182-DDD6F6E0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CFFE-61D3-4BD6-A8FB-A4AD4669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3204-9A85-40DA-939D-6A087693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41E0-520F-44CA-B4F3-314C891B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549-F52C-4330-A8DE-17C5C631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7DD3-122D-4B9E-8EFD-4AA0E76C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D3DB-070A-40D8-9B5E-5297102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009C-3F95-4403-BB2F-3591F90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E14A-E3D8-4A6A-92B9-444A8866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307E-CEE0-491E-B721-4CB5208C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718-439A-4990-BF30-DEBF13C5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8F2-00E5-4FD4-B57C-C10D0488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07B-CC19-4129-90B7-F3727306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07D-479B-466A-9346-64CE9802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64E-80B6-4F17-BB5F-EF45A35B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518-392F-4A8C-A2CF-5CF0A3DF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B25-927F-42F1-903F-C3E5D52F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B024-1469-4E4D-8D8F-30821291EC7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10E8-3CD3-4435-97D7-84D5CBF41D4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ESCOLA MUNICIPAL BRINCANDO DE APRENDER -POLO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869840" y="2852640"/>
            <a:ext cx="727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TECNOLOGIAS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NA MINHA ESCOLA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Elisabete Cano Sabino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542960"/>
            <a:ext cx="44481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utadores (secretaria, sala dos professores, STE - implantando )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elevisão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ídeo e DVDs TV Escola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áquina fotográfica digital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parelho de so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342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escola deve integrar as tecnologias de informação e comunicação porque  elas já estão presentes e influentes em todas as esferas da vida social, cabendo à escola, especialmente à escola pública, atuar no sentido de compensar as terríveis desigualdades sociais e regionais que o acesso desigual a estas máquinas esta gerando.(BELLONI, 2001, p.23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239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8930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FERÊNCI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ELLONI, M. L. 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O que é mídia-educação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mpinas: Autores Associados, 2001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1:21:39Z</dcterms:created>
  <dc:creator>sistema</dc:creator>
  <dc:description/>
  <dc:language>en-US</dc:language>
  <cp:lastModifiedBy>sistema</cp:lastModifiedBy>
  <dcterms:modified xsi:type="dcterms:W3CDTF">2009-05-29T13:18:44Z</dcterms:modified>
  <cp:revision>4</cp:revision>
  <dc:subject/>
  <dc:title>ESCOLA MUNICIPAL BRINCANDO DE APRENDER -PÓLO</dc:title>
</cp:coreProperties>
</file>